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77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cc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284760"/>
            <a:ext cx="297180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9284760"/>
            <a:ext cx="297180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308D1-6BF4-4673-86D9-A93BEDF5A53B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200" spc="-1" strike="noStrike">
                <a:solidFill>
                  <a:srgbClr val="000000"/>
                </a:solidFill>
                <a:latin typeface="Times New Roman"/>
              </a:rPr>
              <a:t>Aita Villasante Udal Euskaltegiko datua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200" spc="-1" strike="noStrike">
                <a:solidFill>
                  <a:srgbClr val="000000"/>
                </a:solidFill>
                <a:latin typeface="Times New Roman"/>
              </a:rPr>
              <a:t>Inkesta bidez jasotako emaitza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200" spc="-1" strike="noStrike">
                <a:solidFill>
                  <a:srgbClr val="000000"/>
                </a:solidFill>
                <a:latin typeface="Times New Roman"/>
              </a:rPr>
              <a:t>Bestalde, euskaltegiko datuak alderatuta euskeraren eragina eta presentz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200" spc="-1" strike="noStrike">
                <a:solidFill>
                  <a:srgbClr val="000000"/>
                </a:solidFill>
                <a:latin typeface="Times New Roman"/>
              </a:rPr>
              <a:t>zenbat edo non dagoen erakusten digu ondorengo grafikoak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200" spc="-1" strike="noStrike">
                <a:solidFill>
                  <a:srgbClr val="000000"/>
                </a:solidFill>
                <a:latin typeface="Times New Roman"/>
              </a:rPr>
              <a:t>telebista, musika eta, batez ere, irratia kenduta, gainontzeko produktua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200" spc="-1" strike="noStrike">
                <a:solidFill>
                  <a:srgbClr val="000000"/>
                </a:solidFill>
                <a:latin typeface="Times New Roman"/>
              </a:rPr>
              <a:t>(egunkariak, aldizkariak... Gazteleraz kontsumitzen dira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u-ES" sz="1200" spc="-1" strike="noStrike" u="sng">
                <a:solidFill>
                  <a:srgbClr val="000000"/>
                </a:solidFill>
                <a:uFillTx/>
                <a:latin typeface="Times New Roman"/>
              </a:rPr>
              <a:t>Euskeraren diagnostikoa egiteko 5 aldagai hartu ditugu kontua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200" spc="-1" strike="noStrike">
                <a:solidFill>
                  <a:srgbClr val="000000"/>
                </a:solidFill>
                <a:latin typeface="Times New Roman"/>
              </a:rPr>
              <a:t>1.  </a:t>
            </a:r>
            <a:r>
              <a:rPr b="1" lang="eu-ES" sz="1200" spc="-1" strike="noStrike">
                <a:solidFill>
                  <a:srgbClr val="000000"/>
                </a:solidFill>
                <a:latin typeface="Times New Roman"/>
              </a:rPr>
              <a:t>Status legala eta soziala</a:t>
            </a:r>
            <a:r>
              <a:rPr b="0" lang="eu-ES" sz="1200" spc="-1" strike="noStrike">
                <a:solidFill>
                  <a:srgbClr val="000000"/>
                </a:solidFill>
                <a:latin typeface="Times New Roman"/>
              </a:rPr>
              <a:t>:  babes legala eta izaera sozia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eu-ES" sz="1200" spc="-1" strike="noStrike">
                <a:solidFill>
                  <a:srgbClr val="000000"/>
                </a:solidFill>
                <a:latin typeface="Times New Roman"/>
              </a:rPr>
              <a:t>Ezagutza</a:t>
            </a:r>
            <a:r>
              <a:rPr b="0" lang="eu-ES" sz="1200" spc="-1" strike="noStrike">
                <a:solidFill>
                  <a:srgbClr val="000000"/>
                </a:solidFill>
                <a:latin typeface="Times New Roman"/>
              </a:rPr>
              <a:t>:  zenbatek dute euskeraz egiteko gaitasu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2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eu-ES" sz="1200" spc="-1" strike="noStrike">
                <a:solidFill>
                  <a:srgbClr val="000000"/>
                </a:solidFill>
                <a:latin typeface="Times New Roman"/>
              </a:rPr>
              <a:t>Erabilera</a:t>
            </a:r>
            <a:r>
              <a:rPr b="0" lang="eu-ES" sz="1200" spc="-1" strike="noStrike">
                <a:solidFill>
                  <a:srgbClr val="000000"/>
                </a:solidFill>
                <a:latin typeface="Times New Roman"/>
              </a:rPr>
              <a:t>:  zenbat, non eta nork erabiltzen duen euske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2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1" lang="eu-ES" sz="1200" spc="-1" strike="noStrike">
                <a:solidFill>
                  <a:srgbClr val="000000"/>
                </a:solidFill>
                <a:latin typeface="Times New Roman"/>
              </a:rPr>
              <a:t>Prestakuntza Linguistikoa</a:t>
            </a:r>
            <a:r>
              <a:rPr b="0" lang="eu-ES" sz="1200" spc="-1" strike="noStrike">
                <a:solidFill>
                  <a:srgbClr val="000000"/>
                </a:solidFill>
                <a:latin typeface="Times New Roman"/>
              </a:rPr>
              <a:t>:  hizkuntza esparru edo arlo guztietan eros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200" spc="-1" strike="noStrike">
                <a:solidFill>
                  <a:srgbClr val="000000"/>
                </a:solidFill>
                <a:latin typeface="Times New Roman"/>
              </a:rPr>
              <a:t>erabiltzeko prestaturik dago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200" spc="-1" strike="noStrike">
                <a:solidFill>
                  <a:srgbClr val="000000"/>
                </a:solidFill>
                <a:latin typeface="Times New Roman"/>
              </a:rPr>
              <a:t>5.  </a:t>
            </a:r>
            <a:r>
              <a:rPr b="1" lang="eu-ES" sz="1200" spc="-1" strike="noStrike">
                <a:solidFill>
                  <a:srgbClr val="000000"/>
                </a:solidFill>
                <a:latin typeface="Times New Roman"/>
              </a:rPr>
              <a:t>Prestigioa</a:t>
            </a:r>
            <a:r>
              <a:rPr b="0" lang="eu-ES" sz="1200" spc="-1" strike="noStrike">
                <a:solidFill>
                  <a:srgbClr val="000000"/>
                </a:solidFill>
                <a:latin typeface="Times New Roman"/>
              </a:rPr>
              <a:t>:  Herritarrek euskerari dioten estimua eta hizkuntzaren gainek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200" spc="-1" strike="noStrike">
                <a:solidFill>
                  <a:srgbClr val="000000"/>
                </a:solidFill>
                <a:latin typeface="Times New Roman"/>
              </a:rPr>
              <a:t>ustea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200" spc="-1" strike="noStrike">
                <a:solidFill>
                  <a:srgbClr val="000000"/>
                </a:solidFill>
                <a:latin typeface="Times New Roman"/>
              </a:rPr>
              <a:t>EBP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200" spc="-1" strike="noStrike">
                <a:solidFill>
                  <a:srgbClr val="000000"/>
                </a:solidFill>
                <a:latin typeface="Times New Roman"/>
              </a:rPr>
              <a:t>Diagnostikoa osotzeko eta aurrera egiteko EBPNan agertzen diren esparruak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200" spc="-1" strike="noStrike">
                <a:solidFill>
                  <a:srgbClr val="000000"/>
                </a:solidFill>
                <a:latin typeface="Times New Roman"/>
              </a:rPr>
              <a:t>aztertu eta eremu bakoitzerako proposamenak prestatu ditugu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200" spc="-1" strike="noStrike">
                <a:solidFill>
                  <a:srgbClr val="000000"/>
                </a:solidFill>
                <a:latin typeface="Times New Roman"/>
              </a:rPr>
              <a:t>METODOLOG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200" spc="-1" strike="noStrike">
                <a:solidFill>
                  <a:srgbClr val="000000"/>
                </a:solidFill>
                <a:latin typeface="Times New Roman"/>
              </a:rPr>
              <a:t>Atal bakoitzerako erabilitako metodologia ezberdina da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200" spc="-1" strike="noStrike">
                <a:solidFill>
                  <a:srgbClr val="000000"/>
                </a:solidFill>
                <a:latin typeface="Times New Roman"/>
              </a:rPr>
              <a:t>- Txostenak, dokumentuak, liburuak, adituen informazioa eta iritziak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200" spc="-1" strike="noStrike">
                <a:solidFill>
                  <a:srgbClr val="000000"/>
                </a:solidFill>
                <a:latin typeface="Times New Roman"/>
              </a:rPr>
              <a:t>elkarrizketak, neurketa zuzena, esperimentu bereziak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200" spc="-1" strike="noStrike">
                <a:solidFill>
                  <a:srgbClr val="000000"/>
                </a:solidFill>
                <a:latin typeface="Times New Roman"/>
              </a:rPr>
              <a:t>Orduan, euskeraren izaera edo egoera orokorra lantzen hasteko lehenen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u-ES" sz="1200" spc="-1" strike="noStrike">
                <a:solidFill>
                  <a:srgbClr val="000000"/>
                </a:solidFill>
                <a:latin typeface="Times New Roman"/>
              </a:rPr>
              <a:t>dakiguna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200" spc="-1" strike="noStrike">
                <a:solidFill>
                  <a:srgbClr val="000000"/>
                </a:solidFill>
                <a:latin typeface="Times New Roman"/>
              </a:rPr>
              <a:t>- Gernikan euskaldun (elebidun) kopurua %71an dagoela.  Apurka-apurka gehituz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200" spc="-1" strike="noStrike">
                <a:solidFill>
                  <a:srgbClr val="000000"/>
                </a:solidFill>
                <a:latin typeface="Times New Roman"/>
              </a:rPr>
              <a:t>- Elebidun hartzaileak murriztuz (euskalduntzea lortzen duten heinean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200" spc="-1" strike="noStrike">
                <a:solidFill>
                  <a:srgbClr val="000000"/>
                </a:solidFill>
                <a:latin typeface="Times New Roman"/>
              </a:rPr>
              <a:t>- Erdaldunena gutxituz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200" spc="-1" strike="noStrike">
                <a:solidFill>
                  <a:srgbClr val="000000"/>
                </a:solidFill>
                <a:latin typeface="Times New Roman"/>
              </a:rPr>
              <a:t>Ezagutza maila handia da eta aprobetxatu beharrekoa.  Izan ere, euskal hiztunak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200" spc="-1" strike="noStrike">
                <a:solidFill>
                  <a:srgbClr val="000000"/>
                </a:solidFill>
                <a:latin typeface="Times New Roman"/>
              </a:rPr>
              <a:t>gaitzearekin ez da nahikoa.  Galera edo hutsuneak sendotu egin beharko dir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200" spc="-1" strike="noStrike">
                <a:solidFill>
                  <a:srgbClr val="000000"/>
                </a:solidFill>
                <a:latin typeface="Times New Roman"/>
              </a:rPr>
              <a:t>Adibidez, etxea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200" spc="-1" strike="noStrike">
                <a:solidFill>
                  <a:srgbClr val="000000"/>
                </a:solidFill>
                <a:latin typeface="Times New Roman"/>
              </a:rPr>
              <a:t>%60,7k Lehen Hizkuntza euskera izan dute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200" spc="-1" strike="noStrike">
                <a:solidFill>
                  <a:srgbClr val="000000"/>
                </a:solidFill>
                <a:latin typeface="Times New Roman"/>
              </a:rPr>
              <a:t>Baina etxean euskera erabiltzen dutenak %41 dira (gazteleraren mesederako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200" spc="-1" strike="noStrike">
                <a:solidFill>
                  <a:srgbClr val="000000"/>
                </a:solidFill>
                <a:latin typeface="Times New Roman"/>
              </a:rPr>
              <a:t>Erabilera orokorrean edo kale erabilera deritzogun horretan euskeraren presentz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200" spc="-1" strike="noStrike">
                <a:solidFill>
                  <a:srgbClr val="000000"/>
                </a:solidFill>
                <a:latin typeface="Times New Roman"/>
              </a:rPr>
              <a:t>gehituz doala esan dezakegu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200" spc="-1" strike="noStrike">
                <a:solidFill>
                  <a:srgbClr val="000000"/>
                </a:solidFill>
                <a:latin typeface="Times New Roman"/>
              </a:rPr>
              <a:t>12 urtetan 1989ko %34,8tik gaur egungo %54,3 lortu d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200" spc="-1" strike="noStrike">
                <a:solidFill>
                  <a:srgbClr val="000000"/>
                </a:solidFill>
                <a:latin typeface="Times New Roman"/>
              </a:rPr>
              <a:t>Gehien erabiltzen dutenek gutxien egiten dutenera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200" spc="-1" strike="noStrike">
                <a:solidFill>
                  <a:srgbClr val="000000"/>
                </a:solidFill>
                <a:latin typeface="Times New Roman"/>
              </a:rPr>
              <a:t>Haurra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200" spc="-1" strike="noStrike">
                <a:solidFill>
                  <a:srgbClr val="000000"/>
                </a:solidFill>
                <a:latin typeface="Times New Roman"/>
              </a:rPr>
              <a:t>Adinekoa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200" spc="-1" strike="noStrike">
                <a:solidFill>
                  <a:srgbClr val="000000"/>
                </a:solidFill>
                <a:latin typeface="Times New Roman"/>
              </a:rPr>
              <a:t>Heldua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200" spc="-1" strike="noStrike">
                <a:solidFill>
                  <a:srgbClr val="000000"/>
                </a:solidFill>
                <a:latin typeface="Times New Roman"/>
              </a:rPr>
              <a:t>Gaztea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200" spc="-1" strike="noStrike">
                <a:solidFill>
                  <a:srgbClr val="000000"/>
                </a:solidFill>
                <a:latin typeface="Times New Roman"/>
              </a:rPr>
              <a:t>Gazteen erabilera iruditu zaigu kezkagarriena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200" spc="-1" strike="noStrike">
                <a:solidFill>
                  <a:srgbClr val="000000"/>
                </a:solidFill>
                <a:latin typeface="Times New Roman"/>
              </a:rPr>
              <a:t>1- Gazteek egiten dute euskera gutxi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200" spc="-1" strike="noStrike">
                <a:solidFill>
                  <a:srgbClr val="000000"/>
                </a:solidFill>
                <a:latin typeface="Times New Roman"/>
              </a:rPr>
              <a:t>2- Eurak izanda haurren ostean talderik euskaldunen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200" spc="-1" strike="noStrike">
                <a:solidFill>
                  <a:srgbClr val="000000"/>
                </a:solidFill>
                <a:latin typeface="Times New Roman"/>
              </a:rPr>
              <a:t>3- Euskeraren etena gaztarora heldu orduko igartzen da: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200" spc="-1" strike="noStrike">
                <a:solidFill>
                  <a:srgbClr val="000000"/>
                </a:solidFill>
                <a:latin typeface="Times New Roman"/>
              </a:rPr>
              <a:t>haurrak dira gehien erabiltzen dutenak eta gazteak gutxi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200" spc="-1" strike="noStrike">
                <a:solidFill>
                  <a:srgbClr val="000000"/>
                </a:solidFill>
                <a:latin typeface="Times New Roman"/>
              </a:rPr>
              <a:t>Hala ere badago pozteko arrazoirik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200" spc="-1" strike="noStrike">
                <a:solidFill>
                  <a:srgbClr val="000000"/>
                </a:solidFill>
                <a:latin typeface="Times New Roman"/>
              </a:rPr>
              <a:t>Azken 12 urteetako bilakaera ikusita, gazteak dira euskeraren erabilera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200" spc="-1" strike="noStrike">
                <a:solidFill>
                  <a:srgbClr val="000000"/>
                </a:solidFill>
                <a:latin typeface="Times New Roman"/>
              </a:rPr>
              <a:t>hazkunderik altuena bizi izan dutenak (azken 5 urteetan 7,9 puntu igo da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200" spc="-1" strike="noStrike">
                <a:solidFill>
                  <a:srgbClr val="000000"/>
                </a:solidFill>
                <a:latin typeface="Times New Roman"/>
              </a:rPr>
              <a:t>Gazteen potentzialitatea aintzat hartzekoa, beraz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200" spc="-1" strike="noStrike">
                <a:solidFill>
                  <a:srgbClr val="000000"/>
                </a:solidFill>
                <a:latin typeface="Times New Roman"/>
              </a:rPr>
              <a:t>Haurrek ere erabilera gehitu dute.  Helduen igoera makalagoa izan da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200" spc="-1" strike="noStrike">
                <a:solidFill>
                  <a:srgbClr val="000000"/>
                </a:solidFill>
                <a:latin typeface="Times New Roman"/>
              </a:rPr>
              <a:t>Orain EBPNko esparruak aztertzen joango gara.  Hezkuntza eta Gernikaldek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200" spc="-1" strike="noStrike">
                <a:solidFill>
                  <a:srgbClr val="000000"/>
                </a:solidFill>
                <a:latin typeface="Times New Roman"/>
              </a:rPr>
              <a:t>ikastetxeetan jasotako informazioaren laburpena erakutsiko dugu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200" spc="-1" strike="noStrike">
                <a:solidFill>
                  <a:srgbClr val="000000"/>
                </a:solidFill>
                <a:latin typeface="Times New Roman"/>
              </a:rPr>
              <a:t>Matrikulazioa eta ikastereduei begira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200" spc="-1" strike="noStrike">
                <a:solidFill>
                  <a:srgbClr val="000000"/>
                </a:solidFill>
                <a:latin typeface="Times New Roman"/>
              </a:rPr>
              <a:t>- %90  D ereduan dabiltz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200" spc="-1" strike="noStrike">
                <a:solidFill>
                  <a:srgbClr val="000000"/>
                </a:solidFill>
                <a:latin typeface="Times New Roman"/>
              </a:rPr>
              <a:t>- Haur Hezkuntza %100 dago euskaldundut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200" spc="-1" strike="noStrike">
                <a:solidFill>
                  <a:srgbClr val="000000"/>
                </a:solidFill>
                <a:latin typeface="Times New Roman"/>
              </a:rPr>
              <a:t>- Lehen Hezkuntza eta DBHn sartzen da B eredu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200" spc="-1" strike="noStrike">
                <a:solidFill>
                  <a:srgbClr val="000000"/>
                </a:solidFill>
                <a:latin typeface="Times New Roman"/>
              </a:rPr>
              <a:t>- Eta A ereduak eraginik handien Lanbide Heziketan du. * Desagertzear dag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200" spc="-1" strike="noStrike">
                <a:solidFill>
                  <a:srgbClr val="000000"/>
                </a:solidFill>
                <a:latin typeface="Times New Roman"/>
              </a:rPr>
              <a:t>Barne funtzionamenduari dagokionez, euskeraren idatzizko erabileraren indiz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200" spc="-1" strike="noStrike">
                <a:solidFill>
                  <a:srgbClr val="000000"/>
                </a:solidFill>
                <a:latin typeface="Times New Roman"/>
              </a:rPr>
              <a:t>orokorraren batezbestekoa %72,21 da.  Ahozkoa %75,36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200" spc="-1" strike="noStrike">
                <a:solidFill>
                  <a:srgbClr val="000000"/>
                </a:solidFill>
                <a:latin typeface="Times New Roman"/>
              </a:rPr>
              <a:t>Idatziz gaztelera gehien bulego inprimakiak betetzean egiten d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200" spc="-1" strike="noStrike">
                <a:solidFill>
                  <a:srgbClr val="000000"/>
                </a:solidFill>
                <a:latin typeface="Times New Roman"/>
              </a:rPr>
              <a:t>Ahozkoan gurasoak dira gaztelera gehien erabiltzen dutenak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200" spc="-1" strike="noStrike">
                <a:solidFill>
                  <a:srgbClr val="000000"/>
                </a:solidFill>
                <a:latin typeface="Times New Roman"/>
              </a:rPr>
              <a:t>Zenbat eta adin txikiagokoak izan behaturikoak euskera gehiago egiten dute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200" spc="-1" strike="noStrike">
                <a:solidFill>
                  <a:srgbClr val="000000"/>
                </a:solidFill>
                <a:latin typeface="Times New Roman"/>
              </a:rPr>
              <a:t>igartzen da eta, alderantziz, zenbat eta nagusiagoak behatu gaztelera gehia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u-ES" sz="1200" spc="-1" strike="noStrike">
                <a:solidFill>
                  <a:srgbClr val="000000"/>
                </a:solidFill>
                <a:latin typeface="Times New Roman"/>
              </a:rPr>
              <a:t>entzuten d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4CC51-D82C-493B-945B-1C52E0F56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403B7-2E68-4073-AB56-2FA84B672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4C7DC-3EFE-41A7-9316-5A237E9DC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CC495-A4E9-47F9-AE9D-B4F018EF7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77C0B-BD45-499A-994A-7C2C89C17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5CE85-C9F4-449D-AFF4-D4B353D1B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5305B-AE10-4FF7-8F3D-51BE33AB6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7672F-7D05-48EE-9E45-FAA9273B6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212CB-FE4E-4E3A-9A77-186AF0B81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779D7-6F55-42C7-A18C-2F39A3B9F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9D68F-EB06-4A42-88AC-A002AD079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1ACFD-AB8A-4900-B2A8-4A5C19EBC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436A5-FBE7-41C8-BBF6-6D60D839DA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1371240"/>
            <a:ext cx="91440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u-ES" sz="3200" spc="-1" strike="noStrike">
                <a:solidFill>
                  <a:srgbClr val="9900cc"/>
                </a:solidFill>
                <a:latin typeface="AlgerianBasD"/>
              </a:rPr>
              <a:t>EUSKERAREN</a:t>
            </a:r>
            <a:br>
              <a:rPr sz="2800"/>
            </a:br>
            <a:r>
              <a:rPr b="1" lang="eu-ES" sz="3200" spc="-1" strike="noStrike">
                <a:solidFill>
                  <a:srgbClr val="9900cc"/>
                </a:solidFill>
                <a:latin typeface="AlgerianBasD"/>
              </a:rPr>
              <a:t>PRESENTZIA</a:t>
            </a:r>
            <a:r>
              <a:rPr b="1" lang="eu-ES" sz="2800" spc="-1" strike="noStrike">
                <a:solidFill>
                  <a:srgbClr val="9900cc"/>
                </a:solidFill>
                <a:latin typeface="AlgerianBasD"/>
              </a:rPr>
              <a:t> </a:t>
            </a:r>
            <a:r>
              <a:rPr b="1" lang="eu-ES" sz="3200" spc="-1" strike="noStrike">
                <a:solidFill>
                  <a:srgbClr val="9900cc"/>
                </a:solidFill>
                <a:latin typeface="AlgerianBasD"/>
              </a:rPr>
              <a:t>ETA</a:t>
            </a:r>
            <a:r>
              <a:rPr b="1" lang="eu-ES" sz="2800" spc="-1" strike="noStrike">
                <a:solidFill>
                  <a:srgbClr val="9900cc"/>
                </a:solidFill>
                <a:latin typeface="AlgerianBasD"/>
              </a:rPr>
              <a:t> </a:t>
            </a:r>
            <a:r>
              <a:rPr b="1" lang="eu-ES" sz="3200" spc="-1" strike="noStrike">
                <a:solidFill>
                  <a:srgbClr val="9900cc"/>
                </a:solidFill>
                <a:latin typeface="AlgerianBasD"/>
              </a:rPr>
              <a:t>AUSENTZIEN</a:t>
            </a:r>
            <a:r>
              <a:rPr b="1" lang="eu-ES" sz="2800" spc="-1" strike="noStrike">
                <a:solidFill>
                  <a:srgbClr val="9900cc"/>
                </a:solidFill>
                <a:latin typeface="AlgerianBasD"/>
              </a:rPr>
              <a:t> </a:t>
            </a:r>
            <a:r>
              <a:rPr b="1" lang="eu-ES" sz="3200" spc="-1" strike="noStrike">
                <a:solidFill>
                  <a:srgbClr val="9900cc"/>
                </a:solidFill>
                <a:latin typeface="AlgerianBasD"/>
              </a:rPr>
              <a:t>DIAGNOSTIKOA</a:t>
            </a:r>
            <a:br>
              <a:rPr sz="2800"/>
            </a:br>
            <a:r>
              <a:rPr b="1" lang="eu-ES" sz="3200" spc="-1" strike="noStrike">
                <a:solidFill>
                  <a:srgbClr val="9900cc"/>
                </a:solidFill>
                <a:latin typeface="AlgerianBasD"/>
              </a:rPr>
              <a:t>GERNIKA-LUMON</a:t>
            </a:r>
            <a:endParaRPr b="0" lang="en-US" sz="32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u-ES" sz="2000" spc="-1" strike="noStrike">
                <a:solidFill>
                  <a:srgbClr val="000000"/>
                </a:solidFill>
                <a:latin typeface="Arial"/>
              </a:rPr>
              <a:t>HIZKUNTZAREN GIZARTE SAREEN AZTERKE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696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9900cc"/>
                </a:solidFill>
                <a:latin typeface="Times New Roman"/>
              </a:rPr>
              <a:t>Hizkuntza Normalkuntza:  arazoak eta lehentasunak</a:t>
            </a:r>
            <a:r>
              <a:rPr b="0" lang="es-ES_tradnl" sz="4400" spc="-1" strike="noStrike">
                <a:solidFill>
                  <a:srgbClr val="9900cc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rakasleen formazio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Herriko hizkerari lekua gela barru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Gurasoak euskalduntz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hozko erabilera gehitz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kasle batzuen euskera maila baxu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48320" y="1980720"/>
            <a:ext cx="4114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uskal kultura ezagutarazt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Terminologia tekniko-zientifikoa garatz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an mundua euskeraren garrantziaz kontzientziatz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9900cc"/>
                </a:solidFill>
                <a:latin typeface="Times New Roman"/>
              </a:rPr>
              <a:t>Proposamenak - Hezkuntza</a:t>
            </a:r>
            <a:endParaRPr b="0" lang="en-US" sz="44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-609480" y="1371600"/>
            <a:ext cx="95248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0" algn="just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400" spc="-1" strike="noStrike">
                <a:solidFill>
                  <a:srgbClr val="000000"/>
                </a:solidFill>
                <a:latin typeface="Times New Roman"/>
              </a:rPr>
              <a:t>Ahozko adierazmena indartzeko ekintzak burutzeko laguntza emate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 algn="just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400" spc="-1" strike="noStrike">
                <a:solidFill>
                  <a:srgbClr val="000000"/>
                </a:solidFill>
                <a:latin typeface="Times New Roman"/>
              </a:rPr>
              <a:t>Irakurzaletasuna bultzatzeko dauden ekimenen berri ematea eta horiek gauzatzeko beharrezkoak diren baliabide edo laguntzak eskaintze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 algn="just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400" spc="-1" strike="noStrike">
                <a:solidFill>
                  <a:srgbClr val="000000"/>
                </a:solidFill>
                <a:latin typeface="Times New Roman"/>
              </a:rPr>
              <a:t>Euskera Zine Aretoetara programan parte hartzera animatu eta hori gauzatzeko beharrezkoak diren baliabideak eskaini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 algn="just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400" spc="-1" strike="noStrike">
                <a:solidFill>
                  <a:srgbClr val="000000"/>
                </a:solidFill>
                <a:latin typeface="Times New Roman"/>
              </a:rPr>
              <a:t>Eusko Jaurlaritzak eta bestelako erakundeek (Europako batzordea...) hizkuntzak sustatzeko kudeatzen dituzten programen eta diru laguntzen berri emate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9900cc"/>
                </a:solidFill>
                <a:latin typeface="Times New Roman"/>
              </a:rPr>
              <a:t>Euskalduntze-alfabetatzea</a:t>
            </a:r>
            <a:endParaRPr b="0" lang="en-US" sz="44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79246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uskaltegira EGA mailakoak doaz gehienb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Gurasoak euren seme-alabekin hitzegiteko gaitasuna lortu nahi d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Lehen Hizkuntza gaztelera dutenek euskera ikasteko arrazoi instrumentalagoak dituzte Lehen Hizkuntza euskera dutenek bai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9900cc"/>
                </a:solidFill>
                <a:latin typeface="Times New Roman"/>
              </a:rPr>
              <a:t>ERABILTZAILEAK:</a:t>
            </a:r>
            <a:r>
              <a:rPr b="0" lang="es-ES_tradnl" sz="4400" spc="-1" strike="noStrike">
                <a:solidFill>
                  <a:srgbClr val="9900cc"/>
                </a:solidFill>
                <a:latin typeface="Times New Roman"/>
              </a:rPr>
              <a:t>  EUSKALTEGIAREN BALORAZIOA</a:t>
            </a:r>
            <a:endParaRPr b="0" lang="en-US" sz="4400" spc="-1" strike="noStrike">
              <a:solidFill>
                <a:srgbClr val="9900cc"/>
              </a:solidFill>
              <a:latin typeface="Times New Roman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322200" y="2820960"/>
          <a:ext cx="9053640" cy="3127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2200" y="2820960"/>
                    <a:ext cx="9053640" cy="312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 rot="20743200">
            <a:off x="990360" y="837720"/>
            <a:ext cx="7167600" cy="5118120"/>
          </a:xfrm>
          <a:prstGeom prst="cube">
            <a:avLst>
              <a:gd name="adj" fmla="val 21652"/>
            </a:avLst>
          </a:prstGeom>
          <a:gradFill rotWithShape="0">
            <a:gsLst>
              <a:gs pos="0">
                <a:srgbClr val="ff5050"/>
              </a:gs>
              <a:gs pos="100000">
                <a:srgbClr val="ffc7c7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6666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838080" y="304920"/>
            <a:ext cx="6477120" cy="67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EZ ERABILTZAILEAK:  KONTRAKO JARRERA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1. Egunero klasera etorri behar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2. Ordutegi arazoa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3. Beste zentroetan eskaintza egokiago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4. Euskaltegian ez dira euren beharrak betetz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9900cc"/>
                </a:solidFill>
                <a:latin typeface="Times New Roman"/>
              </a:rPr>
              <a:t>Euskera euskaltegitik kanpo</a:t>
            </a:r>
            <a:endParaRPr b="0" lang="en-US" sz="4400" spc="-1" strike="noStrike">
              <a:solidFill>
                <a:srgbClr val="9900cc"/>
              </a:solidFill>
              <a:latin typeface="Times New Roman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762120" y="1981080"/>
          <a:ext cx="7619760" cy="411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981080"/>
                    <a:ext cx="761976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9900cc"/>
                </a:solidFill>
                <a:latin typeface="Times New Roman"/>
              </a:rPr>
              <a:t>Proposamenak</a:t>
            </a:r>
            <a:r>
              <a:rPr b="0" lang="es-ES_tradnl" sz="4400" spc="-1" strike="noStrike">
                <a:solidFill>
                  <a:srgbClr val="9900cc"/>
                </a:solidFill>
                <a:latin typeface="Times New Roman"/>
              </a:rPr>
              <a:t> - </a:t>
            </a:r>
            <a:r>
              <a:rPr b="1" lang="es-ES_tradnl" sz="4400" spc="-1" strike="noStrike">
                <a:solidFill>
                  <a:srgbClr val="9900cc"/>
                </a:solidFill>
                <a:latin typeface="Times New Roman"/>
              </a:rPr>
              <a:t>Euskalduntzea</a:t>
            </a:r>
            <a:endParaRPr b="0" lang="en-US" sz="44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-457560" y="1981080"/>
            <a:ext cx="9296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400" spc="-1" strike="noStrike">
                <a:solidFill>
                  <a:srgbClr val="000000"/>
                </a:solidFill>
                <a:latin typeface="Times New Roman"/>
              </a:rPr>
              <a:t>Kasuan kasuko eragile eta taldeak identifikatu jarduera esparruka eta horren arabera ikastaroen eskaintza biderat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400" spc="-1" strike="noStrike">
                <a:solidFill>
                  <a:srgbClr val="000000"/>
                </a:solidFill>
                <a:latin typeface="Times New Roman"/>
              </a:rPr>
              <a:t>Ikasleei euskera sendotzeko topaguneak, jardunaldiak, barnetegiak, murgiltze ekintzak jarri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 algn="just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400" spc="-1" strike="noStrike">
                <a:solidFill>
                  <a:srgbClr val="000000"/>
                </a:solidFill>
                <a:latin typeface="Times New Roman"/>
              </a:rPr>
              <a:t>Herritarren artean euskera ikastearen garrantziaz sentsibilizatzeko eta herrian euskera ikasteko dauden aukeren berri emate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9900cc"/>
                </a:solidFill>
                <a:latin typeface="Times New Roman"/>
              </a:rPr>
              <a:t>Udala</a:t>
            </a:r>
            <a:endParaRPr b="0" lang="en-US" sz="44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Udaleko beharginen %89 euskaldunak di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Hizkuntza eskakizunen akreditazio indize orokorra %53koa 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skakizuna gaindituta dutenek ere gazteleraz lan egiteko joera d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Lanaren %19 baino ez da sortzen euskera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9900cc"/>
                </a:solidFill>
                <a:latin typeface="Times New Roman"/>
              </a:rPr>
              <a:t>Zerbitzu eta lan hizkuntza</a:t>
            </a:r>
            <a:endParaRPr b="0" lang="en-US" sz="44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409720" y="1447560"/>
            <a:ext cx="35053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Kanpo harremana neurtzean herritarren eskaerak kontuan izan beha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Ahoz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erdiek bakarrik aukeratzen dute euske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Idatziz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%5e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380880" y="1447920"/>
          <a:ext cx="4953240" cy="4876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447920"/>
                    <a:ext cx="4953240" cy="487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9900cc"/>
                </a:solidFill>
                <a:latin typeface="Times New Roman"/>
              </a:rPr>
              <a:t>Udal Ordenantzak</a:t>
            </a:r>
            <a:endParaRPr b="0" lang="en-US" sz="44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000000"/>
                </a:solidFill>
                <a:latin typeface="Times New Roman"/>
              </a:rPr>
              <a:t>Orokorrean ez dago hizkuntza irizpideak betetzen diren jakiteko jarraipen sistema zehatzik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9900cc"/>
                </a:solidFill>
                <a:latin typeface="Times New Roman"/>
              </a:rPr>
              <a:t>Euskeraren diagnosia</a:t>
            </a:r>
            <a:endParaRPr b="0" lang="en-US" sz="4400" spc="-1" strike="noStrike">
              <a:solidFill>
                <a:srgbClr val="9900cc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1371600" y="1752480"/>
          <a:ext cx="7391520" cy="441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752480"/>
                    <a:ext cx="7391520" cy="441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9900cc"/>
                </a:solidFill>
                <a:latin typeface="Times New Roman"/>
              </a:rPr>
              <a:t>Proposamenak - Udala</a:t>
            </a:r>
            <a:endParaRPr b="0" lang="en-US" sz="44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800" spc="-1" strike="noStrike">
                <a:solidFill>
                  <a:srgbClr val="000000"/>
                </a:solidFill>
                <a:latin typeface="Times New Roman"/>
              </a:rPr>
              <a:t>Agintariak euskerazko egitasmoen programetan inplikatze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800" spc="-1" strike="noStrike">
                <a:solidFill>
                  <a:srgbClr val="000000"/>
                </a:solidFill>
                <a:latin typeface="Times New Roman"/>
              </a:rPr>
              <a:t>Hizkuntza Eskakizuna lortu duten langileek euren lana euskeraz egite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800" spc="-1" strike="noStrike">
                <a:solidFill>
                  <a:srgbClr val="000000"/>
                </a:solidFill>
                <a:latin typeface="Times New Roman"/>
              </a:rPr>
              <a:t>Euskaraz lan egiteko langileak dituen baliabideak eskaini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800" spc="-1" strike="noStrike">
                <a:solidFill>
                  <a:srgbClr val="000000"/>
                </a:solidFill>
                <a:latin typeface="Times New Roman"/>
              </a:rPr>
              <a:t>Kontratuetan eta diru laguntzen banaketetan hizkuntza irizpideak ezartzea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800" spc="-1" strike="noStrike">
                <a:solidFill>
                  <a:srgbClr val="000000"/>
                </a:solidFill>
                <a:latin typeface="Times New Roman"/>
              </a:rPr>
              <a:t>Euskeraren presentzia bermatu den ziurtatzeko jarraipen sistema antolatze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9900cc"/>
                </a:solidFill>
                <a:latin typeface="Times New Roman"/>
              </a:rPr>
              <a:t>Familia bidezko jarraipena</a:t>
            </a:r>
            <a:endParaRPr b="0" lang="en-US" sz="44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822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3200" spc="-1" strike="noStrike">
                <a:solidFill>
                  <a:srgbClr val="000000"/>
                </a:solidFill>
                <a:latin typeface="Times New Roman"/>
              </a:rPr>
              <a:t>Euskeraz dakien haur zaintzaileen zerrenda osatu eta gurasoen eskura ipin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3200" spc="-1" strike="noStrike">
                <a:solidFill>
                  <a:srgbClr val="000000"/>
                </a:solidFill>
                <a:latin typeface="Times New Roman"/>
              </a:rPr>
              <a:t>Haur jaioberrien gurasoentzat euskerarekiko egitasmoak bildumak, ipuinak, kantuak...  Eskurat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3200" spc="-1" strike="noStrike">
                <a:solidFill>
                  <a:srgbClr val="000000"/>
                </a:solidFill>
                <a:latin typeface="Times New Roman"/>
              </a:rPr>
              <a:t>Familia osatu berria duten bikote erdaldunak euskalduntzeko eta sentsibilizatzeko jarduerak antolatze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9900cc"/>
                </a:solidFill>
                <a:latin typeface="Times New Roman"/>
              </a:rPr>
              <a:t>Auzitegia</a:t>
            </a:r>
            <a:endParaRPr b="0" lang="en-US" sz="4400" spc="-1" strike="noStrike">
              <a:solidFill>
                <a:srgbClr val="9900cc"/>
              </a:solidFill>
              <a:latin typeface="Times New Roman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681120" y="1600200"/>
          <a:ext cx="8462880" cy="5257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1120" y="1600200"/>
                    <a:ext cx="846288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9900cc"/>
                </a:solidFill>
                <a:latin typeface="Times New Roman"/>
              </a:rPr>
              <a:t>Anbulatorioa</a:t>
            </a:r>
            <a:br>
              <a:rPr sz="4400"/>
            </a:b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uskaldun indize orokorra %29</a:t>
            </a:r>
            <a:endParaRPr b="0" lang="en-US" sz="32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ff"/>
                </a:solidFill>
                <a:latin typeface="Times New Roman"/>
              </a:rPr>
              <a:t>Medikuak 21 .....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ff"/>
                </a:solidFill>
                <a:latin typeface="Times New Roman"/>
              </a:rPr>
              <a:t>Erizainak 14 .......</a:t>
            </a:r>
            <a:r>
              <a:rPr b="0" lang="es-ES_tradnl" sz="36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es-ES_tradnl" sz="36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es-ES_tradnl" sz="3600" spc="-1" strike="noStrike">
                <a:solidFill>
                  <a:srgbClr val="0000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ff"/>
                </a:solidFill>
                <a:latin typeface="Times New Roman"/>
              </a:rPr>
              <a:t>Harreran 5 ..........</a:t>
            </a: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4190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Euskaldunak 4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(%19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Euskaldunak 6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(%4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Euskaldunak 1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Beste bat euskalduntzen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(%4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9900cc"/>
                </a:solidFill>
                <a:latin typeface="Times New Roman"/>
              </a:rPr>
              <a:t>Establezimenduak / jarduerak</a:t>
            </a:r>
            <a:br>
              <a:rPr sz="44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Merkataritza eta ostalaritzak %67</a:t>
            </a:r>
            <a:r>
              <a:rPr b="1" lang="es-ES_tradnl" sz="2800" spc="-1" strike="noStrike">
                <a:solidFill>
                  <a:srgbClr val="9900cc"/>
                </a:solidFill>
                <a:latin typeface="Times New Roman"/>
              </a:rPr>
              <a:t> 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betetzen dute</a:t>
            </a:r>
            <a:endParaRPr b="0" lang="en-US" sz="2800" spc="-1" strike="noStrike">
              <a:solidFill>
                <a:srgbClr val="9900cc"/>
              </a:solidFill>
              <a:latin typeface="Times New Roman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457200" y="1676520"/>
          <a:ext cx="8229600" cy="4403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76520"/>
                    <a:ext cx="8229600" cy="440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9900cc"/>
                </a:solidFill>
                <a:latin typeface="Times New Roman"/>
              </a:rPr>
              <a:t>Merkataritza kanpaina</a:t>
            </a:r>
            <a:r>
              <a:rPr b="0" lang="es-ES_tradnl" sz="4400" spc="-1" strike="noStrike">
                <a:solidFill>
                  <a:srgbClr val="9900cc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9900cc"/>
              </a:solidFill>
              <a:latin typeface="Times New Roman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228600" y="1371600"/>
          <a:ext cx="8686800" cy="502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371600"/>
                    <a:ext cx="868680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9900cc"/>
                </a:solidFill>
                <a:latin typeface="Times New Roman"/>
              </a:rPr>
              <a:t>Lehen hitza merkataritzan</a:t>
            </a:r>
            <a:endParaRPr b="0" lang="en-US" sz="44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486400" y="1600200"/>
            <a:ext cx="3200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Times New Roman"/>
              </a:rPr>
              <a:t>Normalean lehen hitza bezeroarena izaten d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Times New Roman"/>
              </a:rPr>
              <a:t>Bezeroek lehen hitza gaztelerazkoa erabiltzeko joera dut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304920" y="1523880"/>
          <a:ext cx="5181480" cy="4800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523880"/>
                    <a:ext cx="5181480" cy="48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9900cc"/>
                </a:solidFill>
                <a:latin typeface="Times New Roman"/>
              </a:rPr>
              <a:t>Proposamenak - Merkataritza</a:t>
            </a:r>
            <a:endParaRPr b="0" lang="en-US" sz="44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3822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3000" spc="-1" strike="noStrike">
                <a:solidFill>
                  <a:srgbClr val="000000"/>
                </a:solidFill>
                <a:latin typeface="Times New Roman"/>
              </a:rPr>
              <a:t>Enpresetan barne eta kanpo plangintzak egiteko laguntzak eskaini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3000" spc="-1" strike="noStrike">
                <a:solidFill>
                  <a:srgbClr val="000000"/>
                </a:solidFill>
                <a:latin typeface="Times New Roman"/>
              </a:rPr>
              <a:t>Bertako enpresekiko harremanetan euskera lehenetsi (tramite administratiboak, zirkularrak, gutunak...)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3000" spc="-1" strike="noStrike">
                <a:solidFill>
                  <a:srgbClr val="000000"/>
                </a:solidFill>
                <a:latin typeface="Times New Roman"/>
              </a:rPr>
              <a:t>Sektoretako arduradunei (dendariei, tabernariei...) euskera erabiltzearen abantailak ikustarazi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3000" spc="-1" strike="noStrike">
                <a:solidFill>
                  <a:srgbClr val="000000"/>
                </a:solidFill>
                <a:latin typeface="Times New Roman"/>
              </a:rPr>
              <a:t>Eraginkorrak diren establezimenduak identifikatu eta mikroplangintzak egin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9900cc"/>
                </a:solidFill>
                <a:latin typeface="Times New Roman"/>
              </a:rPr>
              <a:t>Kultur eta kirol elkarteak</a:t>
            </a:r>
            <a:br>
              <a:rPr sz="4400"/>
            </a:br>
            <a:r>
              <a:rPr b="1" lang="es-ES_tradnl" sz="4000" spc="-1" strike="noStrike">
                <a:solidFill>
                  <a:srgbClr val="ff5050"/>
                </a:solidFill>
                <a:latin typeface="Times New Roman"/>
              </a:rPr>
              <a:t>Kultura</a:t>
            </a:r>
            <a:r>
              <a:rPr b="1" lang="es-ES_tradnl" sz="4000" spc="-1" strike="noStrike">
                <a:solidFill>
                  <a:srgbClr val="ff5050"/>
                </a:solidFill>
                <a:latin typeface="Times New Roman"/>
              </a:rPr>
              <a:t>	</a:t>
            </a:r>
            <a:r>
              <a:rPr b="1" lang="es-ES_tradnl" sz="4000" spc="-1" strike="noStrike">
                <a:solidFill>
                  <a:srgbClr val="ff5050"/>
                </a:solidFill>
                <a:latin typeface="Times New Roman"/>
              </a:rPr>
              <a:t>	</a:t>
            </a:r>
            <a:r>
              <a:rPr b="1" lang="es-ES_tradnl" sz="4000" spc="-1" strike="noStrike">
                <a:solidFill>
                  <a:srgbClr val="ff5050"/>
                </a:solidFill>
                <a:latin typeface="Times New Roman"/>
              </a:rPr>
              <a:t>	</a:t>
            </a:r>
            <a:r>
              <a:rPr b="1" lang="es-ES_tradnl" sz="4000" spc="-1" strike="noStrike">
                <a:solidFill>
                  <a:srgbClr val="ff5050"/>
                </a:solidFill>
                <a:latin typeface="Times New Roman"/>
              </a:rPr>
              <a:t>	</a:t>
            </a:r>
            <a:r>
              <a:rPr b="1" lang="es-ES_tradnl" sz="4000" spc="-1" strike="noStrike">
                <a:solidFill>
                  <a:srgbClr val="ff5050"/>
                </a:solidFill>
                <a:latin typeface="Times New Roman"/>
              </a:rPr>
              <a:t>Kirola</a:t>
            </a:r>
            <a:endParaRPr b="0" lang="en-US" sz="40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800 kidetik go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rdiak helduen taldekoak, herena gaztea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uskaldun kopuruaren batezbestekoa %8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rabilitako hizkuntza:  euskeraz edo elebidun %8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47960" y="1599840"/>
            <a:ext cx="38098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700 kidetik go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din talde nagusiak helduak eta gaztea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uskaldun kopuruaren batezbestekoa %7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rabilitako hizkuntza:  euskeraz edo elebitan %5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l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9900cc"/>
                </a:solidFill>
                <a:latin typeface="Times New Roman"/>
              </a:rPr>
              <a:t>Proposamenak - Aisia</a:t>
            </a:r>
            <a:endParaRPr b="0" lang="en-US" sz="44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800" spc="-1" strike="noStrike">
                <a:solidFill>
                  <a:srgbClr val="000000"/>
                </a:solidFill>
                <a:latin typeface="Times New Roman"/>
              </a:rPr>
              <a:t>Euskal giroan bizitzeko aukera eskaintzeko irteerak eta egonaldiak antolatu eremu euskalduneta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800" spc="-1" strike="noStrike">
                <a:solidFill>
                  <a:srgbClr val="000000"/>
                </a:solidFill>
                <a:latin typeface="Times New Roman"/>
              </a:rPr>
              <a:t>Euskeraz dakiten aisialdirako begiraleen lan poltsa osatu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800" spc="-1" strike="noStrike">
                <a:solidFill>
                  <a:srgbClr val="000000"/>
                </a:solidFill>
                <a:latin typeface="Times New Roman"/>
              </a:rPr>
              <a:t>Begirale-eskolek hezitzaileentzat eta begiraleentzat antolatzen dituzten ikastaroetan euskera bermatu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800" spc="-1" strike="noStrike">
                <a:solidFill>
                  <a:srgbClr val="000000"/>
                </a:solidFill>
                <a:latin typeface="Times New Roman"/>
              </a:rPr>
              <a:t>Euskeraren erabileraren gaineko ebaluazioa egiteko beharrezkoa da jarraipen sistema estatistiko eta deskriptiboa antolatze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400" spc="-1" strike="noStrike">
                <a:solidFill>
                  <a:srgbClr val="9900cc"/>
                </a:solidFill>
                <a:latin typeface="Times New Roman"/>
              </a:rPr>
              <a:t>Ezaugarri soziodemografikoak</a:t>
            </a:r>
            <a:endParaRPr b="0" lang="en-US" sz="44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560" y="1828440"/>
            <a:ext cx="3429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Times New Roman"/>
              </a:rPr>
              <a:t>Euskaldun kopurua gorantz apurka-apurk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Times New Roman"/>
              </a:rPr>
              <a:t>Elebidun hartzaileak murriztu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Times New Roman"/>
              </a:rPr>
              <a:t>Erdaldunak gutxitu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3886200" y="1600200"/>
          <a:ext cx="5029200" cy="4572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86200" y="1600200"/>
                    <a:ext cx="502920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00cc"/>
                </a:solidFill>
                <a:latin typeface="Times New Roman"/>
              </a:rPr>
              <a:t>Beste proposamen batzuk</a:t>
            </a:r>
            <a:endParaRPr b="0" lang="en-US" sz="44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3200" spc="-1" strike="noStrike">
                <a:solidFill>
                  <a:srgbClr val="000000"/>
                </a:solidFill>
                <a:latin typeface="Times New Roman"/>
              </a:rPr>
              <a:t>Udalaren menpeko kultur guneetan euskerazko materialak eguneratuta izatea eta herritarren eskuetan ipintze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3200" spc="-1" strike="noStrike">
                <a:solidFill>
                  <a:srgbClr val="000000"/>
                </a:solidFill>
                <a:latin typeface="Times New Roman"/>
              </a:rPr>
              <a:t>Euskeraz ulermena soilik duen publikoa erakartzeko kanpaina bereziak antolat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3200" spc="-1" strike="noStrike">
                <a:solidFill>
                  <a:srgbClr val="000000"/>
                </a:solidFill>
                <a:latin typeface="Times New Roman"/>
              </a:rPr>
              <a:t>Inguruko herriekin eskualdeko kultur zirkuituak antolat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lvl="1" marL="705600" indent="-27144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800" spc="-1" strike="noStrike">
                <a:solidFill>
                  <a:srgbClr val="000000"/>
                </a:solidFill>
                <a:latin typeface="Times New Roman"/>
              </a:rPr>
              <a:t>Kultur jarduerek sortarazten duten materialaren itzulpenak egiteko laguntza ekonomikoa eta tekniko eskaini</a:t>
            </a:r>
            <a:r>
              <a:rPr b="1" lang="eu-E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800" spc="-1" strike="noStrike">
                <a:solidFill>
                  <a:srgbClr val="000000"/>
                </a:solidFill>
                <a:latin typeface="Times New Roman"/>
              </a:rPr>
              <a:t>Herrian dauden kultur talde desberdinak eta hauen lana ezagutaraz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800" spc="-1" strike="noStrike">
                <a:solidFill>
                  <a:srgbClr val="000000"/>
                </a:solidFill>
                <a:latin typeface="Times New Roman"/>
              </a:rPr>
              <a:t>Udaletako azpiegiturak euskal kulturgintzan dabiltzan taldeen esku jarr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800" spc="-1" strike="noStrike">
                <a:solidFill>
                  <a:srgbClr val="000000"/>
                </a:solidFill>
                <a:latin typeface="Times New Roman"/>
              </a:rPr>
              <a:t>Euskal kultur produkzioa zabaltzea eta ezagutarazte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9900cc"/>
                </a:solidFill>
                <a:latin typeface="Times New Roman"/>
              </a:rPr>
              <a:t>Erlijio taldeak</a:t>
            </a:r>
            <a:br>
              <a:rPr sz="4400"/>
            </a:br>
            <a:r>
              <a:rPr b="1" lang="es-ES_tradnl" sz="3200" spc="-1" strike="noStrike">
                <a:solidFill>
                  <a:srgbClr val="ff5050"/>
                </a:solidFill>
                <a:latin typeface="Times New Roman"/>
              </a:rPr>
              <a:t>Ezagutza</a:t>
            </a:r>
            <a:r>
              <a:rPr b="1" lang="es-ES_tradnl" sz="3200" spc="-1" strike="noStrike">
                <a:solidFill>
                  <a:srgbClr val="ff5050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ff5050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ff5050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ff5050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ff5050"/>
                </a:solidFill>
                <a:latin typeface="Times New Roman"/>
              </a:rPr>
              <a:t>Erabilera</a:t>
            </a:r>
            <a:endParaRPr b="0" lang="en-US" sz="32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38098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Haur eta gazteen artean %96 euskalduna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rduradun edo begiraleak %92 euskalduna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Gurasoen taldeak dira erdaldunena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7960" y="1676520"/>
            <a:ext cx="38098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uskeraz edo lebidun erabiltzen den materiala %67 ingu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Talde bileretan helduak daudenean gaztelera erabiltzeko joe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Gazteekin euskera darabilte normale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9900cc"/>
                </a:solidFill>
                <a:latin typeface="Times New Roman"/>
              </a:rPr>
              <a:t>Proposamenak - Erlijioa</a:t>
            </a:r>
            <a:endParaRPr b="0" lang="en-US" sz="44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3200" spc="-1" strike="noStrike">
                <a:solidFill>
                  <a:srgbClr val="000000"/>
                </a:solidFill>
                <a:latin typeface="Times New Roman"/>
              </a:rPr>
              <a:t>Katekesi ekintzetan erabiltzen den euskerazko materiala zabaltzen lagund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Laguntza eskaini euskerazko ekintzak aurrera eramatek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9900cc"/>
                </a:solidFill>
                <a:latin typeface="Times New Roman"/>
              </a:rPr>
              <a:t>Elebitasun indizea - Gazteak</a:t>
            </a:r>
            <a:endParaRPr b="0" lang="en-US" sz="4400" spc="-1" strike="noStrike">
              <a:solidFill>
                <a:srgbClr val="9900cc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609480" y="1449360"/>
          <a:ext cx="8064720" cy="5178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449360"/>
                    <a:ext cx="8064720" cy="517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9900cc"/>
                </a:solidFill>
                <a:latin typeface="Times New Roman"/>
              </a:rPr>
              <a:t>Elebitasun indizea - Helduak</a:t>
            </a:r>
            <a:endParaRPr b="0" lang="en-US" sz="4400" spc="-1" strike="noStrike">
              <a:solidFill>
                <a:srgbClr val="9900cc"/>
              </a:solidFill>
              <a:latin typeface="Times New Roman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1066680" y="1523880"/>
          <a:ext cx="6934320" cy="4876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523880"/>
                    <a:ext cx="6934320" cy="487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9900cc"/>
                </a:solidFill>
                <a:latin typeface="Times New Roman"/>
              </a:rPr>
              <a:t>Proposamenak - Hizkuntza</a:t>
            </a:r>
            <a:endParaRPr b="0" lang="en-US" sz="44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3200" spc="-1" strike="noStrike">
                <a:solidFill>
                  <a:srgbClr val="000000"/>
                </a:solidFill>
                <a:latin typeface="Times New Roman"/>
              </a:rPr>
              <a:t>Hizkuntza ondarea gordetzeko eta zabaltzeko ekintzetarako laguntza eskain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just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3200" spc="-1" strike="noStrike">
                <a:solidFill>
                  <a:srgbClr val="000000"/>
                </a:solidFill>
                <a:latin typeface="Times New Roman"/>
              </a:rPr>
              <a:t>Merkatal guneetako hizkuntza-paisaian (denda, taberna, akademia eta abarrekoan) euskeraen presentzia txukundu eta areagot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3200" spc="-1" strike="noStrike">
                <a:solidFill>
                  <a:srgbClr val="000000"/>
                </a:solidFill>
                <a:latin typeface="Times New Roman"/>
              </a:rPr>
              <a:t>Bizitasun etnolinguistikoa eta hizkuntza barneratzean eraginkorrak izan daitezke komunikabideak.</a:t>
            </a:r>
            <a:r>
              <a:rPr b="0" lang="eu-E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9900cc"/>
                </a:solidFill>
                <a:latin typeface="Times New Roman"/>
              </a:rPr>
              <a:t>Gutunontzietako iragarkiak</a:t>
            </a:r>
            <a:endParaRPr b="0" lang="en-US" sz="4400" spc="-1" strike="noStrike">
              <a:solidFill>
                <a:srgbClr val="9900cc"/>
              </a:solidFill>
              <a:latin typeface="Times New Roman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1219320" y="1600200"/>
          <a:ext cx="6858000" cy="4495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600200"/>
                    <a:ext cx="6858000" cy="449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9900cc"/>
                </a:solidFill>
                <a:latin typeface="Times New Roman"/>
              </a:rPr>
              <a:t>Iragarkiak zerbitzu gidan</a:t>
            </a:r>
            <a:endParaRPr b="0" lang="en-US" sz="4400" spc="-1" strike="noStrike">
              <a:solidFill>
                <a:srgbClr val="9900cc"/>
              </a:solidFill>
              <a:latin typeface="Times New Roman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1147680" y="1600200"/>
          <a:ext cx="6848640" cy="4495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1600200"/>
                    <a:ext cx="6848640" cy="449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9900cc"/>
                </a:solidFill>
                <a:latin typeface="Times New Roman"/>
              </a:rPr>
              <a:t>Proposamenak - Iragarkiak</a:t>
            </a:r>
            <a:endParaRPr b="0" lang="en-US" sz="44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3200" spc="-1" strike="noStrike">
                <a:solidFill>
                  <a:srgbClr val="000000"/>
                </a:solidFill>
                <a:latin typeface="Times New Roman"/>
              </a:rPr>
              <a:t>Publizidadea euskeraz egitearen aldeko sentsibilizazioan lan egin sektoreetako elkarteekin bater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3200" spc="-1" strike="noStrike">
                <a:solidFill>
                  <a:srgbClr val="000000"/>
                </a:solidFill>
                <a:latin typeface="Times New Roman"/>
              </a:rPr>
              <a:t>Herritarrek edo enpresek publizitatea euskeraz egiteko laguntza teknikoa ema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400" spc="-1" strike="noStrike">
                <a:solidFill>
                  <a:srgbClr val="9900cc"/>
                </a:solidFill>
                <a:latin typeface="Times New Roman"/>
              </a:rPr>
              <a:t>Lehen Hizkuntza eta Etxekoa</a:t>
            </a:r>
            <a:endParaRPr b="0" lang="en-US" sz="44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560" y="1752120"/>
            <a:ext cx="3352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Times New Roman"/>
              </a:rPr>
              <a:t>%60,7k izan dute Lehen Hizkuntza euske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Times New Roman"/>
              </a:rPr>
              <a:t>Etxean normalean euskera erabiltzen dutenak %41di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Times New Roman"/>
              </a:rPr>
              <a:t>Euskeraren galera sumatzen da etxe barru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3505320" y="1600200"/>
          <a:ext cx="5410080" cy="4648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1600200"/>
                    <a:ext cx="5410080" cy="464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8487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9900cc"/>
                </a:solidFill>
                <a:latin typeface="Times New Roman"/>
              </a:rPr>
              <a:t>Zenbat euskera egiten da Gernikan?</a:t>
            </a:r>
            <a:br>
              <a:rPr sz="4400"/>
            </a:br>
            <a:r>
              <a:rPr b="1" lang="es-ES_tradnl" sz="4400" spc="-1" strike="noStrike" u="sng">
                <a:solidFill>
                  <a:srgbClr val="ff5050"/>
                </a:solidFill>
                <a:uFillTx/>
                <a:latin typeface="Times New Roman"/>
              </a:rPr>
              <a:t>Asko</a:t>
            </a:r>
            <a:r>
              <a:rPr b="1" lang="es-ES_tradnl" sz="4400" spc="-1" strike="noStrike" u="sng">
                <a:solidFill>
                  <a:srgbClr val="ff5050"/>
                </a:solidFill>
                <a:uFillTx/>
                <a:latin typeface="Times New Roman"/>
              </a:rPr>
              <a:t>	</a:t>
            </a:r>
            <a:r>
              <a:rPr b="1" lang="es-ES_tradnl" sz="4400" spc="-1" strike="noStrike" u="sng">
                <a:solidFill>
                  <a:srgbClr val="ff5050"/>
                </a:solidFill>
                <a:uFillTx/>
                <a:latin typeface="Times New Roman"/>
              </a:rPr>
              <a:t>	</a:t>
            </a:r>
            <a:r>
              <a:rPr b="1" lang="es-ES_tradnl" sz="4400" spc="-1" strike="noStrike" u="sng">
                <a:solidFill>
                  <a:srgbClr val="ff5050"/>
                </a:solidFill>
                <a:uFillTx/>
                <a:latin typeface="Times New Roman"/>
              </a:rPr>
              <a:t>	</a:t>
            </a:r>
            <a:r>
              <a:rPr b="1" lang="es-ES_tradnl" sz="4400" spc="-1" strike="noStrike" u="sng">
                <a:solidFill>
                  <a:srgbClr val="ff5050"/>
                </a:solidFill>
                <a:uFillTx/>
                <a:latin typeface="Times New Roman"/>
              </a:rPr>
              <a:t>Gutxi</a:t>
            </a:r>
            <a:endParaRPr b="0" lang="en-US" sz="44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04560" y="2361960"/>
            <a:ext cx="419076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Helduen kategorian nagusiene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Haurren kategorian Lehen Hizkuntza gaztelera izan dutene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Adinekoe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48320" y="2361960"/>
            <a:ext cx="403848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Helduen kategorian gazteene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Haurren kategorian Lehen Hizkuntza euskera izan dutene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Gazteek (batez ere gertuko komunitatea erdalduna dutenek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9900cc"/>
                </a:solidFill>
                <a:latin typeface="Times New Roman"/>
              </a:rPr>
              <a:t>Zenbatek dakite euskeraz Gernikan?</a:t>
            </a:r>
            <a:br>
              <a:rPr sz="4400"/>
            </a:br>
            <a:r>
              <a:rPr b="0" lang="es-ES_tradnl" sz="4400" spc="-1" strike="noStrike">
                <a:solidFill>
                  <a:srgbClr val="ff5050"/>
                </a:solidFill>
                <a:latin typeface="Times New Roman"/>
              </a:rPr>
              <a:t>Gehienek</a:t>
            </a:r>
            <a:r>
              <a:rPr b="0" lang="es-ES_tradnl" sz="4400" spc="-1" strike="noStrike">
                <a:solidFill>
                  <a:srgbClr val="ff5050"/>
                </a:solidFill>
                <a:latin typeface="Times New Roman"/>
              </a:rPr>
              <a:t>	</a:t>
            </a:r>
            <a:r>
              <a:rPr b="0" lang="es-ES_tradnl" sz="4400" spc="-1" strike="noStrike">
                <a:solidFill>
                  <a:srgbClr val="ff5050"/>
                </a:solidFill>
                <a:latin typeface="Times New Roman"/>
              </a:rPr>
              <a:t>	</a:t>
            </a:r>
            <a:r>
              <a:rPr b="0" lang="es-ES_tradnl" sz="4400" spc="-1" strike="noStrike">
                <a:solidFill>
                  <a:srgbClr val="ff5050"/>
                </a:solidFill>
                <a:latin typeface="Times New Roman"/>
              </a:rPr>
              <a:t>Gutxik</a:t>
            </a:r>
            <a:endParaRPr b="0" lang="en-US" sz="44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523520" y="2361960"/>
            <a:ext cx="29718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Gaz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Held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Adinek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334120" y="2361960"/>
            <a:ext cx="312408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Hau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9900cc"/>
                </a:solidFill>
                <a:latin typeface="Times New Roman"/>
              </a:rPr>
              <a:t>Nork erabiltzen du euskera?</a:t>
            </a:r>
            <a:endParaRPr b="0" lang="en-US" sz="4400" spc="-1" strike="noStrike">
              <a:solidFill>
                <a:srgbClr val="9900cc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2452680" y="1800360"/>
          <a:ext cx="4464000" cy="409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52680" y="1800360"/>
                    <a:ext cx="4464000" cy="409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9900cc"/>
                </a:solidFill>
                <a:latin typeface="Times New Roman"/>
              </a:rPr>
              <a:t>Haurren gaineko berezitasuna</a:t>
            </a:r>
            <a:endParaRPr b="0" lang="en-US" sz="44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3200" spc="-1" strike="noStrike">
                <a:solidFill>
                  <a:srgbClr val="000000"/>
                </a:solidFill>
                <a:latin typeface="Times New Roman"/>
              </a:rPr>
              <a:t>Haurren artean badaude gazteleraz errazago egiten dutenak, baina euskeraz ozta-oz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3200" spc="-1" strike="noStrike">
                <a:solidFill>
                  <a:srgbClr val="000000"/>
                </a:solidFill>
                <a:latin typeface="Times New Roman"/>
              </a:rPr>
              <a:t>Euskeraz errazago egiten dutenak ez dute gaztelera erabiltzeko arazori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9900cc"/>
                </a:solidFill>
                <a:latin typeface="Times New Roman"/>
              </a:rPr>
              <a:t>Euskerarenganako atxikimendua</a:t>
            </a:r>
            <a:br>
              <a:rPr sz="4400"/>
            </a:br>
            <a:r>
              <a:rPr b="0" lang="es-ES_tradnl" sz="4400" spc="-1" strike="noStrike">
                <a:solidFill>
                  <a:srgbClr val="006600"/>
                </a:solidFill>
                <a:latin typeface="Times New Roman"/>
              </a:rPr>
              <a:t>Haurrak </a:t>
            </a:r>
            <a:r>
              <a:rPr b="0" lang="es-ES_tradnl" sz="44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es-ES_tradnl" sz="44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es-ES_tradnl" sz="44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es-ES_tradnl" sz="4400" spc="-1" strike="noStrike">
                <a:solidFill>
                  <a:srgbClr val="006600"/>
                </a:solidFill>
                <a:latin typeface="Times New Roman"/>
              </a:rPr>
              <a:t>Gazteak</a:t>
            </a:r>
            <a:br>
              <a:rPr sz="4400"/>
            </a:b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Etxetik dakarten hizkuntzarekin identifikatzen dira.   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 Gertuko kounitatean bizi duten hizkuntzaren identifikatzen dira.</a:t>
            </a:r>
            <a:r>
              <a:rPr b="0" lang="es-ES_tradnl" sz="1800" spc="-1" strike="noStrike">
                <a:solidFill>
                  <a:srgbClr val="006600"/>
                </a:solidFill>
                <a:latin typeface="Times New Roman"/>
              </a:rPr>
              <a:t>                           </a:t>
            </a:r>
            <a:r>
              <a:rPr b="0" lang="es-ES_tradnl" sz="4400" spc="-1" strike="noStrike">
                <a:solidFill>
                  <a:srgbClr val="0066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9900cc"/>
              </a:solidFill>
              <a:latin typeface="Times New Roman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304920" y="2438280"/>
          <a:ext cx="8534160" cy="304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438280"/>
                    <a:ext cx="8534160" cy="304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9900cc"/>
                </a:solidFill>
                <a:latin typeface="Times New Roman"/>
              </a:rPr>
              <a:t>Euskeraren hutsuneak</a:t>
            </a:r>
            <a:endParaRPr b="0" lang="en-US" sz="44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901"/>
              </a:spcBef>
              <a:buClr>
                <a:srgbClr val="ffffff"/>
              </a:buClr>
              <a:buFont typeface="ZapfDingbats BT" charset="2"/>
              <a:buChar char="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Gaztelera erabiltzeak </a:t>
            </a: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heldutasuna       </a:t>
            </a: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erakusten d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901"/>
              </a:spcBef>
              <a:buClr>
                <a:srgbClr val="ffffff"/>
              </a:buClr>
              <a:buFont typeface="ZapfDingbats BT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Gaztelerak</a:t>
            </a: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 modernotasuna</a:t>
            </a: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 eta </a:t>
            </a: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gazte kutsua d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901"/>
              </a:spcBef>
              <a:buClr>
                <a:srgbClr val="ffffff"/>
              </a:buClr>
              <a:buFont typeface="ZapfDingbats BT" charset="2"/>
              <a:buChar char="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Gaztelera </a:t>
            </a: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elegantziarekin</a:t>
            </a: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 lotu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901"/>
              </a:spcBef>
              <a:buClr>
                <a:srgbClr val="ffffff"/>
              </a:buClr>
              <a:buFont typeface="ZapfDingbats BT" charset="2"/>
              <a:buChar char="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Euskerazko esamolde falta dute </a:t>
            </a: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esparru informal zein formaletarak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901"/>
              </a:spcBef>
              <a:buClr>
                <a:srgbClr val="ffffff"/>
              </a:buClr>
              <a:buFont typeface="ZapfDingbats BT" charset="2"/>
              <a:buChar char="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Batuera arrotza 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00cc"/>
                </a:solidFill>
                <a:latin typeface="Times New Roman"/>
              </a:rPr>
              <a:t>Euskeraren hutsuneak</a:t>
            </a:r>
            <a:endParaRPr b="0" lang="en-US" sz="44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901"/>
              </a:spcBef>
              <a:buClr>
                <a:srgbClr val="9900cc"/>
              </a:buClr>
              <a:buFont typeface="ZapfDingbats BT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Euskerak dituen hutsuneak gaztelerak betetzen dit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901"/>
              </a:spcBef>
              <a:buClr>
                <a:srgbClr val="9900cc"/>
              </a:buClr>
              <a:buFont typeface="ZapfDingbats BT" charset="2"/>
              <a:buChar char="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Laneko hizkuntza</a:t>
            </a: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 gaztelera 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901"/>
              </a:spcBef>
              <a:buClr>
                <a:srgbClr val="9900cc"/>
              </a:buClr>
              <a:buFont typeface="ZapfDingbats BT" charset="2"/>
              <a:buChar char="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Lan prestigiatuen</a:t>
            </a: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 hizkuntza gaztelera 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901"/>
              </a:spcBef>
              <a:buClr>
                <a:srgbClr val="9900cc"/>
              </a:buClr>
              <a:buFont typeface="ZapfDingbats BT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Ez dago </a:t>
            </a: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hitz teknikorik</a:t>
            </a: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 euskera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901"/>
              </a:spcBef>
              <a:buClr>
                <a:srgbClr val="9900cc"/>
              </a:buClr>
              <a:buFont typeface="ZapfDingbats BT" charset="2"/>
              <a:buChar char="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Gernikako </a:t>
            </a: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denda eta tabernetan</a:t>
            </a: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 gaztelera entzuten 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9900cc"/>
                </a:solidFill>
                <a:latin typeface="Times New Roman"/>
              </a:rPr>
              <a:t>Euskeraren balioa</a:t>
            </a:r>
            <a:endParaRPr b="0" lang="en-US" sz="44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uskera Europako hizkuntzarik zaharren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Altxor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uskal Herriko Hizkuntza eta Kultu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Galzorian dagoe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Gure hizkuntza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9900cc"/>
                </a:solidFill>
                <a:latin typeface="Times New Roman"/>
              </a:rPr>
              <a:t>Euskeraren etorkizuna ona da</a:t>
            </a:r>
            <a:endParaRPr b="0" lang="en-US" sz="44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Haur, gazte, heldu eta adinekoek baikor izateko nahia erakutsi du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enetarik egon da:  batzuek etorkizun iluna ikusten dute;  beste batzuek hobetuz doala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Baina guztiek (euskeraren egoera txarto ikusten dutenek ere) baikorrak izan nahi d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9900cc"/>
                </a:solidFill>
                <a:latin typeface="Times New Roman"/>
              </a:rPr>
              <a:t>Ez da euskera bultzatzeko </a:t>
            </a:r>
            <a:br>
              <a:rPr sz="4400"/>
            </a:br>
            <a:r>
              <a:rPr b="1" lang="es-ES_tradnl" sz="4400" spc="-1" strike="noStrike">
                <a:solidFill>
                  <a:srgbClr val="9900cc"/>
                </a:solidFill>
                <a:latin typeface="Times New Roman"/>
              </a:rPr>
              <a:t>ezer egiten</a:t>
            </a:r>
            <a:br>
              <a:rPr sz="4400"/>
            </a:br>
            <a:endParaRPr b="0" lang="en-US" sz="44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Ez dute euskeraren aldeko ekintzarik ezagutz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Egonez gero ere ez dira eraginkorra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Euskeraren egoera normaldutzat dugu eta horrregatik ez gara arduratz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400" spc="-1" strike="noStrike">
                <a:solidFill>
                  <a:srgbClr val="9900cc"/>
                </a:solidFill>
                <a:latin typeface="Times New Roman"/>
              </a:rPr>
              <a:t>Erabilera</a:t>
            </a:r>
            <a:endParaRPr b="0" lang="en-US" sz="44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257440" y="1600200"/>
            <a:ext cx="3505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Times New Roman"/>
              </a:rPr>
              <a:t>Euskeraren kale erabilera gehituz d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Times New Roman"/>
              </a:rPr>
              <a:t>Euskera gehien erabiltzen dutenak haurra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Times New Roman"/>
              </a:rPr>
              <a:t>Ondoren adinekoa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Times New Roman"/>
              </a:rPr>
              <a:t>Gutxien gazteak eta heldua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457200" y="1600200"/>
          <a:ext cx="4572000" cy="4191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00200"/>
                    <a:ext cx="4572000" cy="41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9900cc"/>
                </a:solidFill>
                <a:latin typeface="Times New Roman"/>
              </a:rPr>
              <a:t>Ondorio orokorrak I</a:t>
            </a:r>
            <a:br>
              <a:rPr sz="4400"/>
            </a:br>
            <a:r>
              <a:rPr b="1" lang="es-ES_tradnl" sz="4400" spc="-1" strike="noStrike">
                <a:solidFill>
                  <a:srgbClr val="9900cc"/>
                </a:solidFill>
                <a:latin typeface="Times New Roman"/>
              </a:rPr>
              <a:t>Status soziala</a:t>
            </a:r>
            <a:endParaRPr b="0" lang="en-US" sz="44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 u="sng">
                <a:solidFill>
                  <a:srgbClr val="000000"/>
                </a:solidFill>
                <a:uFillTx/>
                <a:latin typeface="Times New Roman"/>
              </a:rPr>
              <a:t>%70etik gora euskaldunak</a:t>
            </a: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901"/>
              </a:spcBef>
              <a:buClr>
                <a:srgbClr val="000000"/>
              </a:buClr>
              <a:buFont typeface="Times New Roman"/>
              <a:buChar char="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Gero eta </a:t>
            </a:r>
            <a:r>
              <a:rPr b="1" i="1" lang="es-ES_tradnl" sz="3600" spc="-1" strike="noStrike">
                <a:solidFill>
                  <a:srgbClr val="000000"/>
                </a:solidFill>
                <a:latin typeface="Times New Roman"/>
              </a:rPr>
              <a:t>euskera gehiago</a:t>
            </a: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 entzuten da Gernikako kaleeta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901"/>
              </a:spcBef>
              <a:buClr>
                <a:srgbClr val="000000"/>
              </a:buClr>
              <a:buFont typeface="Times New Roman"/>
              <a:buChar char="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Batez ere haurren artea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901"/>
              </a:spcBef>
              <a:buClr>
                <a:srgbClr val="000000"/>
              </a:buClr>
              <a:buFont typeface="Times New Roman"/>
              <a:buChar char="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000000"/>
                </a:solidFill>
                <a:latin typeface="Times New Roman"/>
              </a:rPr>
              <a:t>Gutxien</a:t>
            </a: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s-ES_tradnl" sz="3600" spc="-1" strike="noStrike">
                <a:solidFill>
                  <a:srgbClr val="000000"/>
                </a:solidFill>
                <a:latin typeface="Times New Roman"/>
              </a:rPr>
              <a:t>gazteek eta helduek</a:t>
            </a: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 egiten du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901"/>
              </a:spcBef>
              <a:buClr>
                <a:srgbClr val="000000"/>
              </a:buClr>
              <a:buFont typeface="Times New Roman"/>
              <a:buChar char="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Baina gazteak indartsu datoz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9900cc"/>
                </a:solidFill>
                <a:latin typeface="Times New Roman"/>
              </a:rPr>
              <a:t>Ondorio orokorrak I</a:t>
            </a:r>
            <a:br>
              <a:rPr sz="4400"/>
            </a:br>
            <a:r>
              <a:rPr b="1" lang="es-ES_tradnl" sz="4400" spc="-1" strike="noStrike">
                <a:solidFill>
                  <a:srgbClr val="9900cc"/>
                </a:solidFill>
                <a:latin typeface="Times New Roman"/>
              </a:rPr>
              <a:t>Status legala</a:t>
            </a:r>
            <a:endParaRPr b="0" lang="en-US" sz="44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uskeraren erabilera gizarte esparru guztietara zabaltzea eta hiztunen eskubideak bermatze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Baina edo ez dira Udal Ordenantzak betetzen edo </a:t>
            </a:r>
            <a:r>
              <a:rPr b="1" i="1" lang="es-ES_tradnl" sz="3200" spc="-1" strike="noStrike">
                <a:solidFill>
                  <a:srgbClr val="000000"/>
                </a:solidFill>
                <a:latin typeface="Times New Roman"/>
              </a:rPr>
              <a:t>ez dago helburu definitu zehatzi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9900cc"/>
                </a:solidFill>
                <a:latin typeface="Times New Roman"/>
              </a:rPr>
              <a:t>Ondorio orokorrak II</a:t>
            </a:r>
            <a:br>
              <a:rPr sz="4400"/>
            </a:br>
            <a:r>
              <a:rPr b="1" lang="es-ES_tradnl" sz="4400" spc="-1" strike="noStrike">
                <a:solidFill>
                  <a:srgbClr val="9900cc"/>
                </a:solidFill>
                <a:latin typeface="Times New Roman"/>
              </a:rPr>
              <a:t>Hezkuntza eta hizkuntza</a:t>
            </a:r>
            <a:endParaRPr b="0" lang="en-US" sz="44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 eredua nagusi izan arren euskera </a:t>
            </a:r>
            <a:r>
              <a:rPr b="1" i="1" lang="es-ES_tradnl" sz="3200" spc="-1" strike="noStrike">
                <a:solidFill>
                  <a:srgbClr val="000000"/>
                </a:solidFill>
                <a:latin typeface="Times New Roman"/>
              </a:rPr>
              <a:t>gaitasuna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endotu behar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Gurasoak </a:t>
            </a:r>
            <a:r>
              <a:rPr b="1" i="1" lang="es-ES_tradnl" sz="3200" spc="-1" strike="noStrike">
                <a:solidFill>
                  <a:srgbClr val="000000"/>
                </a:solidFill>
                <a:latin typeface="Times New Roman"/>
              </a:rPr>
              <a:t>euskalduntze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Ikasleen artean euskera </a:t>
            </a:r>
            <a:r>
              <a:rPr b="1" i="1" lang="es-ES_tradnl" sz="3200" spc="-1" strike="noStrike">
                <a:solidFill>
                  <a:srgbClr val="000000"/>
                </a:solidFill>
                <a:latin typeface="Times New Roman"/>
              </a:rPr>
              <a:t>erabiltzera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motibatze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9900cc"/>
                </a:solidFill>
                <a:latin typeface="Times New Roman"/>
              </a:rPr>
              <a:t>Ondorio orokorrak II</a:t>
            </a:r>
            <a:br>
              <a:rPr sz="4400"/>
            </a:br>
            <a:r>
              <a:rPr b="1" lang="es-ES_tradnl" sz="4400" spc="-1" strike="noStrike">
                <a:solidFill>
                  <a:srgbClr val="9900cc"/>
                </a:solidFill>
                <a:latin typeface="Times New Roman"/>
              </a:rPr>
              <a:t>Administrazio atalak</a:t>
            </a:r>
            <a:endParaRPr b="0" lang="en-US" sz="44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Lana euskeraz </a:t>
            </a:r>
            <a:r>
              <a:rPr b="1" i="1" lang="es-ES_tradnl" sz="3200" spc="-1" strike="noStrike">
                <a:solidFill>
                  <a:srgbClr val="000000"/>
                </a:solidFill>
                <a:latin typeface="Times New Roman"/>
              </a:rPr>
              <a:t>sortze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rakunde eta herritarren arteko </a:t>
            </a:r>
            <a:r>
              <a:rPr b="1" i="1" lang="es-ES_tradnl" sz="3200" spc="-1" strike="noStrike">
                <a:solidFill>
                  <a:srgbClr val="000000"/>
                </a:solidFill>
                <a:latin typeface="Times New Roman"/>
              </a:rPr>
              <a:t>harremana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uskalduntze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uskeraren inguruko</a:t>
            </a:r>
            <a:r>
              <a:rPr b="1" i="1" lang="es-ES_tradnl" sz="3200" spc="-1" strike="noStrike">
                <a:solidFill>
                  <a:srgbClr val="000000"/>
                </a:solidFill>
                <a:latin typeface="Times New Roman"/>
              </a:rPr>
              <a:t> plangintzak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Jaurlaritzarekin bat hedatze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9900cc"/>
                </a:solidFill>
                <a:latin typeface="Times New Roman"/>
              </a:rPr>
              <a:t>Ondorio orokorrak II</a:t>
            </a:r>
            <a:br>
              <a:rPr sz="4400"/>
            </a:br>
            <a:r>
              <a:rPr b="1" lang="es-ES_tradnl" sz="4400" spc="-1" strike="noStrike">
                <a:solidFill>
                  <a:srgbClr val="9900cc"/>
                </a:solidFill>
                <a:latin typeface="Times New Roman"/>
              </a:rPr>
              <a:t>Lan mundua</a:t>
            </a:r>
            <a:endParaRPr b="0" lang="en-US" sz="44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000000"/>
                </a:solidFill>
                <a:uFillTx/>
                <a:latin typeface="Times New Roman"/>
              </a:rPr>
              <a:t>Proposatutako ekintzak hiru ildo estrategikotan banatzen dir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uskeraren erabilera areagotzeko </a:t>
            </a: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</a:rPr>
              <a:t>plangintzak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diruz eta baliabide teknikoz laguntz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npresa zein establezimenduekiko </a:t>
            </a: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</a:rPr>
              <a:t>harremanak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euskalduntzea eta bezero euskaldunei aukera hori emat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</a:rPr>
              <a:t>Sentsibilizazioa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:  euskeraren abantailak eta lehen hitzaren garrantz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9900cc"/>
                </a:solidFill>
                <a:latin typeface="Times New Roman"/>
              </a:rPr>
              <a:t>Ondorio orokorrak II</a:t>
            </a:r>
            <a:br>
              <a:rPr sz="4400"/>
            </a:br>
            <a:r>
              <a:rPr b="1" lang="es-ES_tradnl" sz="4400" spc="-1" strike="noStrike">
                <a:solidFill>
                  <a:srgbClr val="9900cc"/>
                </a:solidFill>
                <a:latin typeface="Times New Roman"/>
              </a:rPr>
              <a:t>Aisia eta kulturgintza</a:t>
            </a:r>
            <a:endParaRPr b="0" lang="en-US" sz="44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Elkarteen lana </a:t>
            </a:r>
            <a:r>
              <a:rPr b="1" i="1" lang="es-ES_tradnl" sz="3600" spc="-1" strike="noStrike">
                <a:solidFill>
                  <a:srgbClr val="000000"/>
                </a:solidFill>
                <a:latin typeface="Times New Roman"/>
              </a:rPr>
              <a:t>ezagutarazi</a:t>
            </a: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 eta parte-hartzea bultzat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Euskerazko produktuen </a:t>
            </a:r>
            <a:r>
              <a:rPr b="1" i="1" lang="es-ES_tradnl" sz="3600" spc="-1" strike="noStrike">
                <a:solidFill>
                  <a:srgbClr val="000000"/>
                </a:solidFill>
                <a:latin typeface="Times New Roman"/>
              </a:rPr>
              <a:t>sormena</a:t>
            </a: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 bultzat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Euskal begiraleak </a:t>
            </a:r>
            <a:r>
              <a:rPr b="1" i="1" lang="es-ES_tradnl" sz="3600" spc="-1" strike="noStrike">
                <a:solidFill>
                  <a:srgbClr val="000000"/>
                </a:solidFill>
                <a:latin typeface="Times New Roman"/>
              </a:rPr>
              <a:t>trebat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9900cc"/>
                </a:solidFill>
                <a:latin typeface="Times New Roman"/>
              </a:rPr>
              <a:t>Ondorio orokorrak III</a:t>
            </a:r>
            <a:br>
              <a:rPr sz="4400"/>
            </a:br>
            <a:r>
              <a:rPr b="1" lang="es-ES_tradnl" sz="4400" spc="-1" strike="noStrike">
                <a:solidFill>
                  <a:srgbClr val="9900cc"/>
                </a:solidFill>
                <a:latin typeface="Times New Roman"/>
              </a:rPr>
              <a:t>Hiztunak eta adierazmena</a:t>
            </a:r>
            <a:endParaRPr b="0" lang="en-US" sz="44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z da nahikoa berbak edo esamoldeak ezagutzea </a:t>
            </a:r>
            <a:r>
              <a:rPr b="1" i="1" lang="es-ES_tradnl" sz="3200" spc="-1" strike="noStrike">
                <a:solidFill>
                  <a:srgbClr val="000000"/>
                </a:solidFill>
                <a:latin typeface="Times New Roman"/>
              </a:rPr>
              <a:t>adierazkorrak eta erabilgarriak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izan behar di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Hizkerari bizitasuna emateko baliabideak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Herriko komunikabidea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aisaia atontz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uskeraren agerpena esparru guztietara hedatz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9900cc"/>
                </a:solidFill>
                <a:latin typeface="Times New Roman"/>
              </a:rPr>
              <a:t>Ondorio orokorrak IV</a:t>
            </a:r>
            <a:br>
              <a:rPr sz="4400"/>
            </a:br>
            <a:r>
              <a:rPr b="1" lang="es-ES_tradnl" sz="4400" spc="-1" strike="noStrike">
                <a:solidFill>
                  <a:srgbClr val="9900cc"/>
                </a:solidFill>
                <a:latin typeface="Times New Roman"/>
              </a:rPr>
              <a:t>Pestigioa</a:t>
            </a:r>
            <a:endParaRPr b="0" lang="en-US" sz="44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uskerak </a:t>
            </a:r>
            <a:r>
              <a:rPr b="1" i="1" lang="es-ES_tradnl" sz="3200" spc="-1" strike="noStrike">
                <a:solidFill>
                  <a:srgbClr val="000000"/>
                </a:solidFill>
                <a:latin typeface="Times New Roman"/>
              </a:rPr>
              <a:t>balio sinboliko afektiboa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du euskaldunen arte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Baina hutsuneak baditu  eta gabezi horiek gaztelerak betetzen ditu: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Gaztelera laneko hizkuntza 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odernoa, bizia eta gaurkotu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Terminologi aldetik euskea baino prestatuag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00cc"/>
                </a:solidFill>
                <a:latin typeface="Times New Roman"/>
              </a:rPr>
              <a:t>Ondorio orokorrak V</a:t>
            </a:r>
            <a:br>
              <a:rPr sz="4400"/>
            </a:br>
            <a:r>
              <a:rPr b="0" lang="es-ES_tradnl" sz="4400" spc="-1" strike="noStrike">
                <a:solidFill>
                  <a:srgbClr val="9900cc"/>
                </a:solidFill>
                <a:latin typeface="Times New Roman"/>
              </a:rPr>
              <a:t>Ardatz nagusiak </a:t>
            </a:r>
            <a:endParaRPr b="0" lang="en-US" sz="44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000000"/>
                </a:solidFill>
                <a:uFillTx/>
                <a:latin typeface="Times New Roman"/>
              </a:rPr>
              <a:t>Esparru bakoitzerako barne plangintzak egiterakoan hiru ardatzek zuzenduko dute eginbeharrekoaren norabide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Helburuak zehaztea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:  normalizazioa zer den definitzea eta euskeraren tratamendua arautze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Garapen potentziala neurtzea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:  ezagutza eta jarrera kontuan hartuz zein euskalduntze mailara heldu gaitezkeen jakit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Ebaluazioa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:  jarraipen sistema eratz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9900cc"/>
                </a:solidFill>
                <a:latin typeface="AlgerianBasD"/>
              </a:rPr>
              <a:t>EUSKERAREN</a:t>
            </a:r>
            <a:br>
              <a:rPr sz="2800"/>
            </a:br>
            <a:r>
              <a:rPr b="1" lang="es-ES_tradnl" sz="2800" spc="-1" strike="noStrike">
                <a:solidFill>
                  <a:srgbClr val="9900cc"/>
                </a:solidFill>
                <a:latin typeface="AlgerianBasD"/>
              </a:rPr>
              <a:t>PRESENTZIA ETA AUSENTZIEN DIAGNOSTIKOA</a:t>
            </a:r>
            <a:br>
              <a:rPr sz="2800"/>
            </a:br>
            <a:r>
              <a:rPr b="1" lang="es-ES_tradnl" sz="2800" spc="-1" strike="noStrike">
                <a:solidFill>
                  <a:srgbClr val="9900cc"/>
                </a:solidFill>
                <a:latin typeface="AlgerianBasD"/>
              </a:rPr>
              <a:t>GERNIKA-LUMON</a:t>
            </a:r>
            <a:endParaRPr b="0" lang="en-US" sz="28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000000"/>
                </a:solidFill>
                <a:latin typeface="Arial"/>
              </a:rPr>
              <a:t>Eskerrik ask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400" spc="-1" strike="noStrike">
                <a:solidFill>
                  <a:srgbClr val="9900cc"/>
                </a:solidFill>
                <a:latin typeface="Times New Roman"/>
              </a:rPr>
              <a:t>Gazteen erabilera kezkagarria</a:t>
            </a:r>
            <a:endParaRPr b="0" lang="en-US" sz="44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Times New Roman"/>
              </a:rPr>
              <a:t>Gazteek egiten dute euskerarik gutxi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Times New Roman"/>
              </a:rPr>
              <a:t>Eurak izanda haurren ostean talderik euskaldune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Times New Roman"/>
              </a:rPr>
              <a:t>Erabilera errealetik teorikoki espero daitekeenera dagoen aldea handia 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Times New Roman"/>
              </a:rPr>
              <a:t>Euskeraren etena gaztarora heldu orduko igartzen 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400" spc="-1" strike="noStrike">
                <a:solidFill>
                  <a:srgbClr val="9900cc"/>
                </a:solidFill>
                <a:latin typeface="Times New Roman"/>
              </a:rPr>
              <a:t>Gernikaldeko ikastetxeak</a:t>
            </a:r>
            <a:endParaRPr b="0" lang="en-US" sz="44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Ikasleen %90ek  D eredua aukeratu d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Haur Hezkuntzan D eredua %100ean dag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Lehen Hezkuntzan B ereduak %14 biltzen du eta DBHn berd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A eredua gehien nabarmentzen den zikloa Lanbide Heziketa 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5000">
    <p:randomBa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9900cc"/>
                </a:solidFill>
                <a:latin typeface="Times New Roman"/>
              </a:rPr>
              <a:t>Euskeraren agerpena</a:t>
            </a:r>
            <a:r>
              <a:rPr b="0" lang="es-ES_tradnl" sz="4400" spc="-1" strike="noStrike">
                <a:solidFill>
                  <a:srgbClr val="9900cc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9900cc"/>
              </a:solidFill>
              <a:latin typeface="Times New Roman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457200" y="1523880"/>
          <a:ext cx="8229600" cy="365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523880"/>
                    <a:ext cx="8229600" cy="36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9900cc"/>
                </a:solidFill>
                <a:latin typeface="Times New Roman"/>
              </a:rPr>
              <a:t>Ikasleen ahozko erabilpena</a:t>
            </a:r>
            <a:endParaRPr b="0" lang="en-US" sz="4400" spc="-1" strike="noStrike">
              <a:solidFill>
                <a:srgbClr val="9900cc"/>
              </a:solidFill>
              <a:latin typeface="Times New Roman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380880" y="1752480"/>
          <a:ext cx="8382240" cy="4191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752480"/>
                    <a:ext cx="8382240" cy="41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3T14:50:46Z</dcterms:created>
  <dc:creator>*</dc:creator>
  <dc:description/>
  <dc:language>en-US</dc:language>
  <cp:lastModifiedBy>*</cp:lastModifiedBy>
  <cp:lastPrinted>2002-11-04T20:43:22Z</cp:lastPrinted>
  <dcterms:modified xsi:type="dcterms:W3CDTF">2002-11-05T12:30:53Z</dcterms:modified>
  <cp:revision>55</cp:revision>
  <dc:subject/>
  <dc:title>EUSKERAREN PRESENTZIA ETA AUSENTZIEN DIAGNOSTIKOA GERNIKA-LUMON</dc:title>
</cp:coreProperties>
</file>